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676-312A-40AB-A195-F46B1878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0AB-0DD4-4D48-91C4-16C250E0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E9F-B7B0-481C-8EA5-F5868A48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A5F-30D1-4B58-8412-C96B7A29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D13-942A-4DFA-ABC4-6D2928B4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3AF-119B-4800-A72C-E2C40C30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0DC-6D3B-48A9-8A67-F8AB9CE3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450-AA54-4C7A-9214-88983436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FF7-AE40-4D9D-AC9E-91924053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5FE-A02C-4FF1-8FF4-603820B8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562-A92E-495C-B591-D11667F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D1B-BBE5-448B-AC76-E775BA57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49F9-169F-4543-A404-28DD78FC1F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pictures on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34290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2007 Awa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“on the fly” s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3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00160" y="1833480"/>
            <a:ext cx="51436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“Human landsca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7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Wild life” a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9.3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pet d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3.6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pet 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2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28840" y="1068480"/>
            <a:ext cx="62863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natural scenary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open spac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8.6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treet painting” a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8.9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ody painting” a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6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00160" y="1668600"/>
            <a:ext cx="5143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X-Treme sport” a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0.9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85960" y="851040"/>
            <a:ext cx="737208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transportation” a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en’s b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85960" y="976320"/>
            <a:ext cx="7372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85960" y="662040"/>
            <a:ext cx="73720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Women’s b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pecial m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2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00480" y="57168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nor m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03600" y="571680"/>
            <a:ext cx="373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d, finall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09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global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240" y="38095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92.6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007 awards -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s voted by users of</a:t>
            </a:r>
            <a:br>
              <a:rPr sz="3200"/>
            </a:br>
            <a:br>
              <a:rPr sz="1600"/>
            </a:br>
            <a:r>
              <a:rPr b="0" lang="es-ES" sz="3200" spc="-1" strike="noStrike" u="sng">
                <a:solidFill>
                  <a:srgbClr val="0000ff"/>
                </a:solidFill>
                <a:uFillTx/>
                <a:latin typeface="Times New Roman"/>
              </a:rPr>
              <a:t>www.whatatop.co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natural scenary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closed spac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90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urban landsc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7.8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5960" y="628560"/>
            <a:ext cx="73720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f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2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51080" y="571680"/>
            <a:ext cx="4640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5:46:46Z</dcterms:created>
  <dc:creator>César Sánchez Ruiz</dc:creator>
  <dc:description/>
  <dc:language>en-US</dc:language>
  <cp:lastModifiedBy>ub</cp:lastModifiedBy>
  <dcterms:modified xsi:type="dcterms:W3CDTF">2007-12-24T15:26:22Z</dcterms:modified>
  <cp:revision>33</cp:revision>
  <dc:subject/>
  <dc:title>Las mejores imágenes de internet</dc:title>
</cp:coreProperties>
</file>